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8B89-BF03-4EDE-8811-45A2B4C64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7AC9-B215-456B-A226-AF9CEA72E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170214-6F9F-4A1E-AF9E-ACD71C82E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956D25-BA44-4BE9-BD63-6A33FFF48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928E90-7C7A-4ADC-8A59-C87D43DF5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E70094-338C-4B09-A02A-DFCE11E1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96C52B-66AA-41B8-A6E4-E2512DB1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29959D-581F-4C21-B896-8A4DF663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83B9C9-071B-4587-9809-83DDA193E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5264AE-B7EB-40D3-B936-3A744B158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0AB4A5-8B91-4C3C-81B3-2537A56B3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F0EF65-1924-424B-9B1C-BA9F57050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2035-9828-4DB9-8565-587B20A7E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9067A8-5CE2-4493-B993-5DB9CC284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7C2423-4FA9-4CEC-8D9D-708640574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9E95A0-A2BD-4969-8DD0-81E7E243C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67099B-EF30-42E2-89B0-F5E80EE64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E6E8EF-2F1D-4C3E-ADA7-02E84D88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68CEB2-81EA-4BA7-9E15-6C304152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C5707A-BFA9-4AF8-B4D9-115ECEC0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2846C3-6041-48FC-9592-3B985428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A1FDFF-5C3B-48E6-904C-EED90CF07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A08463-6BB9-4203-8676-8FCC8C7B2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391C-7CE0-4A08-A2A4-44B64D8DA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7ABCEA-D5FC-4D93-AD51-63334DFC3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25D726-82F1-410A-96AE-63070B2A8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EF7B63-0428-4BC5-9FD7-07263C661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D4F37A-D8DF-438C-9072-CEE497A02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9C63C7-0728-42A3-BACD-A549C7085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22DC5E-F1A1-44B9-85BC-A636FC67C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DE241A-3665-44B4-BF38-AF80A8B95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C01BB4-0855-491B-A584-9805A9B6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397D84-7468-4ABB-88B3-D8BB6EF0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CB116A-38C1-441E-BD08-1407AA98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B56A7-7418-450A-87D8-EAC9725F3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0EA77B-74D7-4198-AEAD-6F7A23860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1CE65E-65E1-4CFB-985E-CD0C220CB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C2B85E-95AC-4572-989F-F50018C71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ED27A6-DC99-4BBB-ACF1-1E9970E8F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61E8B2-25D9-48FA-BED5-8CE4FDC27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89C639-CF5A-463E-B420-0A07A621E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BF700C-A1A7-4EFF-ABA5-E21EC77DF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050D9D-168C-4657-BA81-C8B81192E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5CB473-3231-4949-8509-4597CA63E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857B48-1D70-4151-B65E-5700FB0C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7DEFE-C083-4583-888D-78A51417B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785871-5F9D-4372-A6F2-9D649EAE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3A3E3F-EA7D-473C-85F0-3971A0CB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B9049F-D7F3-4B68-9316-6ED121AFF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07BCB6-EF63-485F-A445-A6DD0FC85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9A48CE-E918-47D7-92CC-319563821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5D1CD-8F80-443C-8007-E169CE916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96BEA-E125-4376-9336-8C437AB56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4503B-135F-4A91-856D-863ECB10E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89C75-DF44-4E67-8DE2-AB63B7A7E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6ED6B-39BD-4082-9E27-504F7BAD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12A0-3FF2-4D90-AC04-257DC3796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7DA64-A163-46B2-A71C-E7BE069C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99B40-FFB1-4B41-BB46-B84B6B3F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A7130-BFEC-4CD5-BF70-29F76E300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8FCFC-9FA1-44BF-9D19-21EFF3EBF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0E898-F690-4D1C-8AB7-387318641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D11F7-CDD1-4A61-ABEC-41F00227D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E6418-38DA-452F-9509-313C682CF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4A7E5-78DC-4A82-9D3A-8FE4444A7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A26C2-C29D-44EF-83AF-E0D21097B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354D9-A7A7-42B7-BCDD-C8E70A71D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F613-6F2F-45CE-987A-DAA6E2F14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1BD37-7421-4FC7-921A-E490DCB89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BA1C7-2AA8-4935-9527-E9941A36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8812C-51B4-4906-8BE5-9931616F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76844-8FFB-4109-8C4F-53B01E44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766AE-ED69-40CF-A952-AF0240FBA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AC723-12E9-4402-81D1-EF9B38812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C0F2B-F5DE-4EB9-9661-C3B1A54EC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690E4-6F4B-48E0-A4EC-7F96BC7D0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EA6CB-70D2-4B3F-B806-F53D37B05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FEE91-C251-4D01-AF76-CA1284499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F33D-0B75-4FCF-82D5-2382BA62F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C13A1-A67B-4367-8A33-5CE363250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EE191-8364-48CA-A00F-D61D0226B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C5104-F13C-4772-9406-7EAAC3ED1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8E375-77D9-45EC-B47E-20510ECA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8DB6B-5DFB-4BEE-955C-30722BB5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2A8BE-0D47-42C9-93D0-DC0D207B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18321-9CFB-4A22-981C-118286C9F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7AD2C-71D8-400B-BB09-108A5F970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ECA7C-263F-461F-8A8E-F7F7279FC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E9175-954D-4AC9-9D4C-A96A52C85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8088-99A2-4E8C-9501-58CC990A9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DB140D-08F7-4B74-B6CA-27D6ED7BA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B69A6-A9CF-469B-9653-83B48584D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1E29E-B748-413B-A209-FD3D8D02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CDE9A-98CC-4647-944B-E3A45F455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2DA6B-D0E4-49AD-9DD8-8F188AE69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3224F-6CFA-4832-8BE7-D70CCC80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7A6D5-EDBB-4A2C-821E-8DBF1756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99BF1-09A4-4F69-B3E5-41473015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371E5-FAF6-4FA0-8F36-CF8DA193D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D12E6-ED15-48F2-BFDB-8566B12A8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5AA9-51F5-4DE9-A127-ECA08F41F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F6C38-3828-404D-A964-FA487D933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6F567-C508-4D85-B231-5594A7752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0A985-E1E1-4B64-B294-0D9F7C2B9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77CFF-817F-475B-8CA6-525D42810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3C2768-A7FA-4D78-9270-35231800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4A35C-A13E-4A09-AEC7-6CE6CD56C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8AB3A-4833-4883-929F-8D13E6DD7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0D778-DD06-4313-B619-EF2AAEA5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9EB68-C6F8-4AB4-BDD2-0311FEE9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6C29E-2E60-4DCE-B1A8-F4A1CC21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8AC0-306C-4B81-ABD6-B2C62B97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F30CC-2951-44AD-B138-DB0D379F0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89400-EC1E-4AF9-8AB8-AF07DA1A2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D6961-5345-4B11-9E91-19A4F169A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1158C1-CE77-49C6-A0B3-25204C079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90C82-7BAE-489E-BEA9-8C8403179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07D48-A8E9-4219-8A51-9B333155F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46508-D05E-4925-99E9-084237684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2F23A7-51D2-44A1-9D7D-2FD6FE5FC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0A2C2-AAF8-4F34-98EF-4F97FAFAE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AE42A1-3BA8-429C-A7CD-3FF12585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95F9-B30B-4790-BBFA-DF387234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B3CBD1-2CE5-4EF8-96FB-B5E62288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18BF1-8219-48FC-921C-0ACC9CB3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3E07F-8A26-420B-841B-8AF5446F5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A14040-6644-4FB7-94AB-9A32E4BA4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154F29-AB66-4489-BB35-F0E7B0118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C399FD-E0FE-404B-8BA1-D4662DAE7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4FE955-CA7C-4C3F-9C94-8BC691B08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E3AD17-E084-43AC-8B63-236B1BF8C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78AD56-229D-4008-9B91-DA8EF3284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BD9270-89B4-412F-9CEC-9EF109E9F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9DAC-C6AE-42CB-BD87-69A1531B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1FC812-166B-4BB7-8CE8-34A6F958E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C7EF3F-89C5-480E-ACAF-0B1F3365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8DD3B4-7691-47FD-9F94-2748E6A1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C69BB-500D-43F9-8714-979FB62B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F5D7FB-E1EF-4F97-AB42-3B4F5D03B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9123AB-F4DD-4D54-B875-49387C32F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9677A2-14E7-40B1-8308-9A282B769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CAA668-C0FD-4F21-A14E-62B0AC299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ACEA15-C3FF-4A76-8515-260EEE6B0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0A30FA-3C53-44CE-8919-E98218027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8BDE2-B4E1-4042-A960-6748CD26927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B1172-D799-4E74-90C1-14241CA3A2F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7CDDB-E32F-438D-90FC-139950BDE77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EB618-05A5-4F1B-B15C-DC4A5A2F655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D23D4-A5AD-4F4A-940E-E01E927B7DD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98398-EEB6-4F9F-9ACE-58E40FEF1A7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1B1C6-4727-460F-A45D-614AE02A5C8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8EFA9-E576-49F4-B00E-C5B28CE7311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12704-5CF0-4432-AF1C-2A6F6513528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CC828-FCF2-4190-A6D3-4A8EE21404D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E33AB-FC00-4996-84B7-A1510A245A2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F5EBD-4A70-406B-85E1-F15D7A2E7B0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33 Duchom svojím veď nás, Kris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Duchom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svojím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veď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nás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Kriste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40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uď nám pevnou oporo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y sme Slovo tvoje čisté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vestovali s pokor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voja milosť nech nás chrán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d zvodom a sklamaní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nech láska tvojich dlaní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revádza nás žehnaní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mocni ruky naše znov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toré k tebe spínam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ch nás milosť stále nová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víha, hoc aj klesá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oznieť chabej viery plameň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silni krok nesmel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o sŕdc úzkosť navždy zažeň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iež sme stáli, zmužil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jednoť, Pane, cirkev svoj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čisť krvou z Golgot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by v nej pre službu tvoj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lo viacej ochot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iežby každý, kto ťa pozn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lúžiť verne vždy ti chce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ilosť tvoja spásonosná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zrieť večný dá nám cieľ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3-25T15:30:05Z</dcterms:modified>
  <cp:revision>21</cp:revision>
  <dc:subject/>
  <dc:title>Je veľký náš Pán, on slávy je Kráľ Nech do všetkých strán  spev vrúcnych znie chvál.</dc:title>
</cp:coreProperties>
</file>